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FE4A-4091-4391-92C2-09D724D21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A7A1-4E79-4536-A6DF-7518DEFD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B7C2-E7F6-49EE-8584-8DEB9B7A8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8963-8A5E-4183-8793-F72F98CD2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7B152-EC1D-4D69-B081-74600E678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219A-7DFC-41B7-8FF6-95504C30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E4A2-F675-4586-A64E-855B73EA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D954-FF4A-47A8-8995-25EAF207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9FB8-EC41-4798-B3C7-54E7ED3D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2BB5-67EA-416C-9E56-4C9A489B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5FA9-3261-445D-9379-C832CD4B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39BA-9E7F-42C3-9CC7-BB24B4BA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43E7-A6AC-422D-9E4D-ADEFAA86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1450-881B-4523-A350-36EE1F6E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CB0F-336F-4F0C-B771-3FEBF763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07C1-6A51-4751-8C1D-493610DC8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5EF1-7895-47CE-A807-5B0FD6A81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F2CF9-1FBF-4FDE-8C7D-C07772A1B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8416C-CD8F-4452-B1EB-FFCE774D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EE4CC-1DB4-452F-B819-44F2E840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1F496-F7EB-4878-97F0-9806FE55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51C5B-4941-4BFE-9620-98C280FF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F49B-FE4E-4975-A5DD-0251425C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9E622-64CF-4B28-9375-67B05A05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9A072-493F-4BA0-AA01-A623C3BB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96623-2C19-48C7-AC16-263821B1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C4460-41CA-4920-B01C-46D63573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2413C-9E10-466B-84FC-F03BD0B8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C48D2-7999-484A-BD71-1A1386B02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19D67-90B5-44DB-9E2B-E724B3C60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70221F-1455-4A01-9885-3B5297E44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6E6AC0-B048-43A3-BBC6-C6CF05E2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5509B2-20AC-4F6A-A366-E9484703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63FB-3581-4AC1-B05C-4A6C70BF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FFAF03-A1CD-4DBC-BEAD-C97AE4AA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3F4BAB-B8C7-4584-AFA0-BB8185BF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22F797-EEA5-4FFC-94D5-CCA6CA75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9A64E8-3DD2-4D07-ABF3-AE299E55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7EED37-0A8C-4D7E-87AF-6FCC9A9B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1C23DE-CD18-4BF5-AFEB-38ACD77F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C28110-D066-4D7E-AA1C-A3AAD0CC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592A3A-82B8-462F-B9BD-FCED8BD4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5AE3B7-CB09-4774-8926-ECC129493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42BB5-720E-4AED-8D48-81A2FD91D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7F3C-72B6-4A1B-80AB-2938D6BB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4ACE9-1767-43F6-BE53-7BCCC61B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A597F-E94A-4882-B7DC-DDFDCDC3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85751-E87F-4FBD-BA52-BFD2D46F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39A46-D7A5-4779-B53B-B18BA025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517C8-4DBE-4D1C-8BE6-CF8327DB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26498-EFB9-4968-8AA4-2D613FC4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D674D-D2A7-46E4-AA3C-3421A515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3F3B3-EC81-4A7D-B3B7-0634E497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6FCEE-2E1C-4DAC-A1B4-F0969BED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C639F-B976-4501-B7B1-DD257A3B8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BB90-7AC5-4588-935C-09A8137B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8C624-98A7-4601-8678-0FEE72ED8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C611A-B9FA-4EE4-AE1B-C7B2A3C8A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EDD89-893D-4C14-B374-0E8F5CD9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13F90-124E-4ACE-8ED4-D23B417A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2809F-A66F-442E-B134-69230A14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90A84-5256-4731-A853-FABF7863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F4E87-3A70-4EEC-8AE6-EABBF423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53045-4F64-4B8A-B35C-02CB5528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E2BBB-1C69-4D29-9B65-65C15C33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B5ABD-4DDC-45E9-950E-61E2EB9C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8880-BF87-40BB-B73B-A87E3A14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1E157-7F80-4398-97FD-998F1F24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D292F-8B37-40E7-9E06-DFB473413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AE2CB-B54A-4CF3-B899-EBE13DF08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1DF29-CDF7-4A20-B10F-ED6BB4A75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1F9F1-8BC2-435F-B0C6-F33AE0A8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60BDD-4672-4728-8E92-2048E56C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ADE3E-B4EB-4300-A99E-D9B1D569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28BA8-E6E0-4EB5-A2A6-ED17D062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2ECFE-A32B-4920-837C-15835E3B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55C55-0F5F-444A-AE5D-058EC18A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1BF0-21EC-499C-ACD0-5D7B8FF6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9328D-E4BB-484D-B02A-E8217BB5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4B7B3-B93F-46D7-94A0-5E5C5AA7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6B7BB-0660-4383-B0EE-21241F5E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9A001-F83D-4CA6-A6BF-9BEF4AAF6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AC5DB-DF81-4CBF-BFE5-15B7825E9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A0B45-EE5A-4587-9F50-91D64A034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A5BD9-560E-4217-A704-B4EA8888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5D08C-E882-498C-8040-2D546647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F9E86-EB5A-4E27-9C0F-EF92A99B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546D3-585B-4FBC-BEE5-B2D7C2C6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5D9A-2006-48F6-84E0-C6CEFE49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40363-E1BB-4953-865F-9180D3A4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8B57B-18E7-4DD5-8D8B-B39B3659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58FBB-F145-4140-B204-8514A08E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DC804-FEDB-44A6-840D-675A0603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6C305-7577-4156-BCD0-AA168B2A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D5643-40FF-453C-8E35-1AC0F3E60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A9981-A8B3-49CA-B570-6FD4FE61E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5DDB41-7EAA-4C2A-BA65-8D4DFBAE759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15D857-5B19-478A-8DCC-0F80808F47D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54F0B4-BC8E-4EC6-BCD0-6BEFDD63DD1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Master text styl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Third level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Fourth level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Fifth level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1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647AD9A-8C2D-4B63-8F84-751DBDFBAD37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2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200" spc="-100" strike="noStrike">
                <a:solidFill>
                  <a:srgbClr val="f9f9f9"/>
                </a:solidFill>
                <a:latin typeface="Constantia"/>
              </a:rPr>
              <a:t>Click to edit Master title style</a:t>
            </a:r>
            <a:endParaRPr b="0" lang="en-US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reeform 6"/>
          <p:cNvSpPr/>
          <p:nvPr/>
        </p:nvSpPr>
        <p:spPr>
          <a:xfrm>
            <a:off x="-9360" y="-792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Freeform 7"/>
          <p:cNvSpPr/>
          <p:nvPr/>
        </p:nvSpPr>
        <p:spPr>
          <a:xfrm>
            <a:off x="4381560" y="-792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66" name="Group 1"/>
          <p:cNvGrpSpPr/>
          <p:nvPr/>
        </p:nvGrpSpPr>
        <p:grpSpPr>
          <a:xfrm>
            <a:off x="-29160" y="-15480"/>
            <a:ext cx="9197640" cy="1084680"/>
            <a:chOff x="-29160" y="-15480"/>
            <a:chExt cx="9197640" cy="1084680"/>
          </a:xfrm>
        </p:grpSpPr>
        <p:sp>
          <p:nvSpPr>
            <p:cNvPr id="167" name="Freeform 11"/>
            <p:cNvSpPr/>
            <p:nvPr/>
          </p:nvSpPr>
          <p:spPr>
            <a:xfrm rot="21435600">
              <a:off x="-18720" y="203040"/>
              <a:ext cx="9162720" cy="64728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68" name="Freeform 12"/>
            <p:cNvSpPr/>
            <p:nvPr/>
          </p:nvSpPr>
          <p:spPr>
            <a:xfrm rot="21435600">
              <a:off x="-14040" y="276120"/>
              <a:ext cx="9175320" cy="52884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5600" spc="-1" strike="noStrike">
                <a:solidFill>
                  <a:srgbClr val="50e0ea"/>
                </a:solidFill>
                <a:latin typeface="Calibri"/>
              </a:rPr>
              <a:t>Click to edit Master title style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5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CB2C3B-A0D8-4F37-A47D-DC8B4CE0AA1A}" type="slidenum"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reeform 6"/>
          <p:cNvSpPr/>
          <p:nvPr/>
        </p:nvSpPr>
        <p:spPr>
          <a:xfrm>
            <a:off x="-9360" y="-792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Freeform 7"/>
          <p:cNvSpPr/>
          <p:nvPr/>
        </p:nvSpPr>
        <p:spPr>
          <a:xfrm>
            <a:off x="4381560" y="-792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12" name="Group 1"/>
          <p:cNvGrpSpPr/>
          <p:nvPr/>
        </p:nvGrpSpPr>
        <p:grpSpPr>
          <a:xfrm>
            <a:off x="-29160" y="-15480"/>
            <a:ext cx="9197640" cy="1084680"/>
            <a:chOff x="-29160" y="-15480"/>
            <a:chExt cx="9197640" cy="1084680"/>
          </a:xfrm>
        </p:grpSpPr>
        <p:sp>
          <p:nvSpPr>
            <p:cNvPr id="213" name="Freeform 11"/>
            <p:cNvSpPr/>
            <p:nvPr/>
          </p:nvSpPr>
          <p:spPr>
            <a:xfrm rot="21435600">
              <a:off x="-18720" y="203040"/>
              <a:ext cx="9162720" cy="64728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14" name="Freeform 12"/>
            <p:cNvSpPr/>
            <p:nvPr/>
          </p:nvSpPr>
          <p:spPr>
            <a:xfrm rot="21435600">
              <a:off x="-14040" y="276120"/>
              <a:ext cx="9175320" cy="52884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Master title style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935000"/>
            <a:ext cx="8229240" cy="438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72880" indent="-27288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624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hird leve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2032BA-A671-46DC-87D2-3A207F9EF2C9}" type="slidenum"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C796F7-FE09-4130-B1C7-E4C821B17F1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dt" idx="22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2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D2EAA31-D19B-44FD-9925-E65FB50B310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6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6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3936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rimester 1 Review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371600" y="22248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6960" y="1066680"/>
            <a:ext cx="7851240" cy="9140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1836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5600" spc="-1" strike="noStrike">
                <a:solidFill>
                  <a:srgbClr val="20c9f8"/>
                </a:solidFill>
                <a:latin typeface="Calibri"/>
              </a:rPr>
              <a:t>Characteristics of Life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304920" y="2286000"/>
            <a:ext cx="8534160" cy="3504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18360" anchor="t">
            <a:noAutofit/>
          </a:bodyPr>
          <a:p>
            <a:pPr marL="571680" indent="-571680">
              <a:lnSpc>
                <a:spcPct val="100000"/>
              </a:lnSpc>
              <a:spcBef>
                <a:spcPts val="879"/>
              </a:spcBef>
              <a:buClr>
                <a:srgbClr val="0bd0d9"/>
              </a:buClr>
              <a:buSzPct val="95000"/>
              <a:buFont typeface="Arial"/>
              <a:buChar char="•"/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All living things must have </a:t>
            </a: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ALL SIX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879"/>
              </a:spcBef>
              <a:buClr>
                <a:srgbClr val="0bd0d9"/>
              </a:buClr>
              <a:buSzPct val="95000"/>
              <a:buFont typeface="Arial"/>
              <a:buChar char="•"/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If even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Narrow"/>
              </a:rPr>
              <a:t>one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is missing it CANNOT be considered aliv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879"/>
              </a:spcBef>
              <a:buClr>
                <a:srgbClr val="0bd0d9"/>
              </a:buClr>
              <a:buSzPct val="95000"/>
              <a:buFont typeface="Arial"/>
              <a:buChar char="•"/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List them on the next 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sldNum" idx="25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D77260-0068-4CA9-A4ED-A090BE59B392}" type="slidenum">
              <a:rPr b="0" lang="en-US" sz="1200" spc="-1" strike="noStrike">
                <a:solidFill>
                  <a:srgbClr val="035c75"/>
                </a:solidFill>
                <a:latin typeface="Constantia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Picture 4" descr=""/>
          <p:cNvPicPr/>
          <p:nvPr/>
        </p:nvPicPr>
        <p:blipFill>
          <a:blip r:embed="rId1"/>
          <a:stretch/>
        </p:blipFill>
        <p:spPr>
          <a:xfrm>
            <a:off x="7860960" y="0"/>
            <a:ext cx="1282680" cy="13712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"/>
          <p:cNvPicPr/>
          <p:nvPr/>
        </p:nvPicPr>
        <p:blipFill>
          <a:blip r:embed="rId2"/>
          <a:stretch/>
        </p:blipFill>
        <p:spPr>
          <a:xfrm>
            <a:off x="6908760" y="4083480"/>
            <a:ext cx="2234880" cy="21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-37440" y="762120"/>
            <a:ext cx="9143640" cy="1218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5000" spc="-1" strike="noStrike">
                <a:solidFill>
                  <a:srgbClr val="c00000"/>
                </a:solidFill>
                <a:latin typeface="Calibri"/>
              </a:rPr>
              <a:t>CHARACTERISTICS OF LIFE</a:t>
            </a:r>
            <a:br>
              <a:rPr sz="5000"/>
            </a:b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(requirements for something to be considered living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8991360" cy="4694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743040" indent="-743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Calibri"/>
              <a:buAutoNum type="arabicPeriod"/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Calibri"/>
              <a:buAutoNum type="arabicPeriod"/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Calibri"/>
              <a:buAutoNum type="arabicPeriod"/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Calibri"/>
              <a:buAutoNum type="arabicPeriod"/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Calibri"/>
              <a:buAutoNum type="arabicPeriod"/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Calibri"/>
              <a:buAutoNum type="arabicPeriod"/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sldNum" idx="2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B106B42-244B-4656-A6AF-257F8287CAF4}" type="slidenum">
              <a:rPr b="0" lang="en-US" sz="1200" spc="-1" strike="noStrike">
                <a:solidFill>
                  <a:srgbClr val="035c75"/>
                </a:solidFill>
                <a:latin typeface="Constantia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240" cy="742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Living vs. Non-Living Examples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7" name="Content Placeholder 4" descr="Living Things.jpg"/>
          <p:cNvPicPr/>
          <p:nvPr/>
        </p:nvPicPr>
        <p:blipFill>
          <a:blip r:embed="rId1"/>
          <a:srcRect l="0" t="-8305" r="0" b="-8305"/>
          <a:stretch/>
        </p:blipFill>
        <p:spPr>
          <a:xfrm>
            <a:off x="33480" y="1447920"/>
            <a:ext cx="9110160" cy="5105160"/>
          </a:xfrm>
          <a:prstGeom prst="rect">
            <a:avLst/>
          </a:prstGeom>
          <a:ln w="9525">
            <a:noFill/>
          </a:ln>
        </p:spPr>
      </p:pic>
      <p:sp>
        <p:nvSpPr>
          <p:cNvPr id="378" name="PlaceHolder 2"/>
          <p:cNvSpPr>
            <a:spLocks noGrp="1"/>
          </p:cNvSpPr>
          <p:nvPr>
            <p:ph type="sldNum" idx="27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0DD1F8-66BA-4318-AF42-70A281651AB6}" type="slidenum">
              <a:rPr b="0" lang="en-US" sz="1200" spc="-1" strike="noStrike">
                <a:solidFill>
                  <a:srgbClr val="035c75"/>
                </a:solidFill>
                <a:latin typeface="Constantia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2760" cy="22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Plant Cells or Animal Cells?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t a “P” by Plant Cell descrip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t an “A” by Animal Cell descri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648320" y="2367360"/>
            <a:ext cx="396216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 ____ Rand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. ____ Recognizable Sha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 ____ “Neat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. ____ “Messy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. ____ Rows &amp; Colum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Content Placeholder 2"/>
          <p:cNvSpPr/>
          <p:nvPr/>
        </p:nvSpPr>
        <p:spPr>
          <a:xfrm>
            <a:off x="1143000" y="2359080"/>
            <a:ext cx="2895120" cy="43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200000"/>
              </a:lnSpc>
              <a:spcBef>
                <a:spcPts val="479"/>
              </a:spcBef>
              <a:spcAft>
                <a:spcPts val="601"/>
              </a:spcAft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 ____ No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479"/>
              </a:spcBef>
              <a:spcAft>
                <a:spcPts val="601"/>
              </a:spcAft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 ____ Organ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479"/>
              </a:spcBef>
              <a:spcAft>
                <a:spcPts val="601"/>
              </a:spcAft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. ____ “Blob”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479"/>
              </a:spcBef>
              <a:spcAft>
                <a:spcPts val="601"/>
              </a:spcAft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7. ____ St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479"/>
              </a:spcBef>
              <a:spcAft>
                <a:spcPts val="601"/>
              </a:spcAft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9. ____ Odd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2" name="Table 3"/>
          <p:cNvGraphicFramePr/>
          <p:nvPr/>
        </p:nvGraphicFramePr>
        <p:xfrm>
          <a:off x="380880" y="1295280"/>
          <a:ext cx="8381520" cy="5257440"/>
        </p:xfrm>
        <a:graphic>
          <a:graphicData uri="http://schemas.openxmlformats.org/drawingml/2006/table">
            <a:tbl>
              <a:tblPr/>
              <a:tblGrid>
                <a:gridCol w="3371040"/>
                <a:gridCol w="5010480"/>
              </a:tblGrid>
              <a:tr h="902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ll Par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unction/Jo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10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d0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d0cf"/>
                    </a:solidFill>
                  </a:tcPr>
                </a:tc>
              </a:tr>
              <a:tr h="1203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04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d0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d0cf"/>
                    </a:solidFill>
                  </a:tcPr>
                </a:tc>
              </a:tr>
            </a:tbl>
          </a:graphicData>
        </a:graphic>
      </p:graphicFrame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19960" y="152280"/>
            <a:ext cx="8669520" cy="8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THREE cell parts that can be found ONLY in plant cells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do they do (what is their job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Group 23"/>
          <p:cNvGraphicFramePr/>
          <p:nvPr/>
        </p:nvGraphicFramePr>
        <p:xfrm>
          <a:off x="0" y="1092600"/>
          <a:ext cx="9143640" cy="5673240"/>
        </p:xfrm>
        <a:graphic>
          <a:graphicData uri="http://schemas.openxmlformats.org/drawingml/2006/table">
            <a:tbl>
              <a:tblPr/>
              <a:tblGrid>
                <a:gridCol w="3217320"/>
                <a:gridCol w="2878560"/>
                <a:gridCol w="3047760"/>
              </a:tblGrid>
              <a:tr h="1432440">
                <a:tc>
                  <a:txBody>
                    <a:bodyPr tIns="45360" bIns="4536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ell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</a:tabLst>
                      </a:pPr>
                      <a:r>
                        <a:rPr b="1" lang="en-US" sz="4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ＭＳ Ｐゴシック"/>
                        </a:rPr>
                        <a:t>Wal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ell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</a:tabLst>
                      </a:pPr>
                      <a:r>
                        <a:rPr b="1" lang="en-US" sz="4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ＭＳ Ｐゴシック"/>
                        </a:rPr>
                        <a:t>Membran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08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ell Type/Loc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(plant, animal, bot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08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tructur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(what it’s lik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264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unction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(what it do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5" name="Text Box 24"/>
          <p:cNvSpPr/>
          <p:nvPr/>
        </p:nvSpPr>
        <p:spPr>
          <a:xfrm>
            <a:off x="533520" y="152280"/>
            <a:ext cx="8229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lete the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8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Plant or Animal Cell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Picture 2" descr="http://t1.gstatic.com/images?q=tbn:ANd9GcQ9mapYYTGz2k_EJ9QzTUGg7zQW5vOffKWI6vGxr4ljMMMGc-JQ6Q"/>
          <p:cNvPicPr/>
          <p:nvPr/>
        </p:nvPicPr>
        <p:blipFill>
          <a:blip r:embed="rId1"/>
          <a:stretch/>
        </p:blipFill>
        <p:spPr>
          <a:xfrm>
            <a:off x="6172200" y="762120"/>
            <a:ext cx="1969920" cy="20966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http://t2.gstatic.com/images?q=tbn:ANd9GcTAIffyUuSi-CGgdq6bq4VOlJwWnH4t-Gn6A0Peuru6-3kRl6dxZw"/>
          <p:cNvPicPr/>
          <p:nvPr/>
        </p:nvPicPr>
        <p:blipFill>
          <a:blip r:embed="rId2"/>
          <a:stretch/>
        </p:blipFill>
        <p:spPr>
          <a:xfrm>
            <a:off x="5488200" y="3781080"/>
            <a:ext cx="2969640" cy="21956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0" descr="http://t3.gstatic.com/images?q=tbn:ANd9GcQeoZ2wuUg2xO0Zd5F4QwTa1gXs9mccZcMZMzPGkhEuun42GsKlyA"/>
          <p:cNvPicPr/>
          <p:nvPr/>
        </p:nvPicPr>
        <p:blipFill>
          <a:blip r:embed="rId3"/>
          <a:stretch/>
        </p:blipFill>
        <p:spPr>
          <a:xfrm>
            <a:off x="304920" y="3006360"/>
            <a:ext cx="4181400" cy="2818080"/>
          </a:xfrm>
          <a:prstGeom prst="rect">
            <a:avLst/>
          </a:prstGeom>
          <a:ln w="0">
            <a:noFill/>
          </a:ln>
        </p:spPr>
      </p:pic>
      <p:sp>
        <p:nvSpPr>
          <p:cNvPr id="390" name="Title 4"/>
          <p:cNvSpPr/>
          <p:nvPr/>
        </p:nvSpPr>
        <p:spPr>
          <a:xfrm>
            <a:off x="152280" y="609480"/>
            <a:ext cx="6171840" cy="22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How do you kn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(What is there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(What is not there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itle 4"/>
          <p:cNvSpPr/>
          <p:nvPr/>
        </p:nvSpPr>
        <p:spPr>
          <a:xfrm>
            <a:off x="370080" y="5824800"/>
            <a:ext cx="3775320" cy="8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itle 4"/>
          <p:cNvSpPr/>
          <p:nvPr/>
        </p:nvSpPr>
        <p:spPr>
          <a:xfrm>
            <a:off x="5060520" y="5977440"/>
            <a:ext cx="3775320" cy="8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itle 4"/>
          <p:cNvSpPr/>
          <p:nvPr/>
        </p:nvSpPr>
        <p:spPr>
          <a:xfrm>
            <a:off x="5303520" y="2587320"/>
            <a:ext cx="3775320" cy="8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924320" cy="129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Plant Cells or Animal Cell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How do you know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12" descr="http://t1.gstatic.com/images?q=tbn:ANd9GcRrygZuwqZRA4rRFy2eep9oS-5lx8rfcUUpeBSRF3zBYMIBltwwkA"/>
          <p:cNvPicPr/>
          <p:nvPr/>
        </p:nvPicPr>
        <p:blipFill>
          <a:blip r:embed="rId1"/>
          <a:stretch/>
        </p:blipFill>
        <p:spPr>
          <a:xfrm>
            <a:off x="1066680" y="1676520"/>
            <a:ext cx="1622160" cy="16221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4" descr="http://t3.gstatic.com/images?q=tbn:ANd9GcTXzN1J-qgkDWJsO8gEYhn7PDgTJgX17Fi5P2TnXKtLsMWEKrHj"/>
          <p:cNvPicPr/>
          <p:nvPr/>
        </p:nvPicPr>
        <p:blipFill>
          <a:blip r:embed="rId2"/>
          <a:stretch/>
        </p:blipFill>
        <p:spPr>
          <a:xfrm>
            <a:off x="5568120" y="4191120"/>
            <a:ext cx="2382120" cy="17841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"/>
          <p:cNvPicPr/>
          <p:nvPr/>
        </p:nvPicPr>
        <p:blipFill>
          <a:blip r:embed="rId3"/>
          <a:stretch/>
        </p:blipFill>
        <p:spPr>
          <a:xfrm>
            <a:off x="922680" y="4340160"/>
            <a:ext cx="2457360" cy="16351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5" descr=""/>
          <p:cNvPicPr/>
          <p:nvPr/>
        </p:nvPicPr>
        <p:blipFill>
          <a:blip r:embed="rId4"/>
          <a:stretch/>
        </p:blipFill>
        <p:spPr>
          <a:xfrm>
            <a:off x="5421240" y="1752480"/>
            <a:ext cx="2529000" cy="1465560"/>
          </a:xfrm>
          <a:prstGeom prst="rect">
            <a:avLst/>
          </a:prstGeom>
          <a:ln w="0">
            <a:noFill/>
          </a:ln>
        </p:spPr>
      </p:pic>
      <p:sp>
        <p:nvSpPr>
          <p:cNvPr id="399" name="Title 4"/>
          <p:cNvSpPr/>
          <p:nvPr/>
        </p:nvSpPr>
        <p:spPr>
          <a:xfrm>
            <a:off x="0" y="3212280"/>
            <a:ext cx="3775320" cy="8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itle 4"/>
          <p:cNvSpPr/>
          <p:nvPr/>
        </p:nvSpPr>
        <p:spPr>
          <a:xfrm>
            <a:off x="5004720" y="3205800"/>
            <a:ext cx="3775320" cy="8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itle 4"/>
          <p:cNvSpPr/>
          <p:nvPr/>
        </p:nvSpPr>
        <p:spPr>
          <a:xfrm>
            <a:off x="0" y="5975640"/>
            <a:ext cx="3775320" cy="8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4"/>
          <p:cNvSpPr/>
          <p:nvPr/>
        </p:nvSpPr>
        <p:spPr>
          <a:xfrm>
            <a:off x="5002920" y="5975640"/>
            <a:ext cx="3775320" cy="8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ive two reasons that cells need to divid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7430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7430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re the cells forme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identical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differen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? (circle on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2"/>
          <p:cNvSpPr/>
          <p:nvPr/>
        </p:nvSpPr>
        <p:spPr>
          <a:xfrm>
            <a:off x="533520" y="22860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l Di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5" descr=""/>
          <p:cNvPicPr/>
          <p:nvPr/>
        </p:nvPicPr>
        <p:blipFill>
          <a:blip r:embed="rId1"/>
          <a:srcRect l="11239" t="1329" r="20605" b="11543"/>
          <a:stretch/>
        </p:blipFill>
        <p:spPr>
          <a:xfrm>
            <a:off x="3733920" y="4671360"/>
            <a:ext cx="1194120" cy="1526760"/>
          </a:xfrm>
          <a:prstGeom prst="rect">
            <a:avLst/>
          </a:prstGeom>
          <a:ln w="0">
            <a:noFill/>
          </a:ln>
        </p:spPr>
      </p:pic>
      <p:grpSp>
        <p:nvGrpSpPr>
          <p:cNvPr id="406" name="Group 2"/>
          <p:cNvGrpSpPr/>
          <p:nvPr/>
        </p:nvGrpSpPr>
        <p:grpSpPr>
          <a:xfrm>
            <a:off x="2895480" y="1828800"/>
            <a:ext cx="3352680" cy="1142640"/>
            <a:chOff x="2895480" y="1828800"/>
            <a:chExt cx="3352680" cy="1142640"/>
          </a:xfrm>
        </p:grpSpPr>
        <p:pic>
          <p:nvPicPr>
            <p:cNvPr id="407" name="Picture 4" descr="MC900434841[1]"/>
            <p:cNvPicPr/>
            <p:nvPr/>
          </p:nvPicPr>
          <p:blipFill>
            <a:blip r:embed="rId2"/>
            <a:stretch/>
          </p:blipFill>
          <p:spPr>
            <a:xfrm>
              <a:off x="4038480" y="1828800"/>
              <a:ext cx="1099440" cy="11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AutoShape 5"/>
            <p:cNvSpPr/>
            <p:nvPr/>
          </p:nvSpPr>
          <p:spPr>
            <a:xfrm>
              <a:off x="2895480" y="2286000"/>
              <a:ext cx="1172880" cy="228240"/>
            </a:xfrm>
            <a:prstGeom prst="rightArrow">
              <a:avLst>
                <a:gd name="adj1" fmla="val 50000"/>
                <a:gd name="adj2" fmla="val 133333"/>
              </a:avLst>
            </a:prstGeom>
            <a:solidFill>
              <a:schemeClr val="tx1"/>
            </a:solidFill>
            <a:ln w="9525">
              <a:solidFill>
                <a:srgbClr val="070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AutoShape 6"/>
            <p:cNvSpPr/>
            <p:nvPr/>
          </p:nvSpPr>
          <p:spPr>
            <a:xfrm>
              <a:off x="5075280" y="2286000"/>
              <a:ext cx="1172880" cy="228240"/>
            </a:xfrm>
            <a:prstGeom prst="rightArrow">
              <a:avLst>
                <a:gd name="adj1" fmla="val 50000"/>
                <a:gd name="adj2" fmla="val 133333"/>
              </a:avLst>
            </a:prstGeom>
            <a:solidFill>
              <a:schemeClr val="tx1"/>
            </a:solidFill>
            <a:ln w="9525">
              <a:solidFill>
                <a:srgbClr val="070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3"/>
          <p:cNvGrpSpPr/>
          <p:nvPr/>
        </p:nvGrpSpPr>
        <p:grpSpPr>
          <a:xfrm>
            <a:off x="2819520" y="5334120"/>
            <a:ext cx="3504960" cy="228240"/>
            <a:chOff x="2819520" y="5334120"/>
            <a:chExt cx="3504960" cy="228240"/>
          </a:xfrm>
        </p:grpSpPr>
        <p:sp>
          <p:nvSpPr>
            <p:cNvPr id="411" name="AutoShape 8"/>
            <p:cNvSpPr/>
            <p:nvPr/>
          </p:nvSpPr>
          <p:spPr>
            <a:xfrm>
              <a:off x="2819520" y="5334120"/>
              <a:ext cx="1122120" cy="228240"/>
            </a:xfrm>
            <a:prstGeom prst="rightArrow">
              <a:avLst>
                <a:gd name="adj1" fmla="val 50000"/>
                <a:gd name="adj2" fmla="val 133333"/>
              </a:avLst>
            </a:prstGeom>
            <a:solidFill>
              <a:schemeClr val="tx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AutoShape 9"/>
            <p:cNvSpPr/>
            <p:nvPr/>
          </p:nvSpPr>
          <p:spPr>
            <a:xfrm>
              <a:off x="5202360" y="5334120"/>
              <a:ext cx="1122120" cy="228240"/>
            </a:xfrm>
            <a:prstGeom prst="rightArrow">
              <a:avLst>
                <a:gd name="adj1" fmla="val 50000"/>
                <a:gd name="adj2" fmla="val 133333"/>
              </a:avLst>
            </a:prstGeom>
            <a:solidFill>
              <a:schemeClr val="tx1"/>
            </a:solidFill>
            <a:ln w="9525">
              <a:solidFill>
                <a:srgbClr val="070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13" name="Straight Connector 4"/>
          <p:cNvCxnSpPr/>
          <p:nvPr/>
        </p:nvCxnSpPr>
        <p:spPr>
          <a:xfrm>
            <a:off x="0" y="3886200"/>
            <a:ext cx="9144360" cy="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14" name="TextBox 6"/>
          <p:cNvSpPr/>
          <p:nvPr/>
        </p:nvSpPr>
        <p:spPr>
          <a:xfrm>
            <a:off x="6400800" y="1143000"/>
            <a:ext cx="2742840" cy="243792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15" name="TextBox 15"/>
          <p:cNvSpPr/>
          <p:nvPr/>
        </p:nvSpPr>
        <p:spPr>
          <a:xfrm>
            <a:off x="6400800" y="4267080"/>
            <a:ext cx="2742840" cy="243792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16" name="TextBox 16"/>
          <p:cNvSpPr/>
          <p:nvPr/>
        </p:nvSpPr>
        <p:spPr>
          <a:xfrm>
            <a:off x="0" y="1143000"/>
            <a:ext cx="2742840" cy="243792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17" name="TextBox 17"/>
          <p:cNvSpPr/>
          <p:nvPr/>
        </p:nvSpPr>
        <p:spPr>
          <a:xfrm>
            <a:off x="-8280" y="4267080"/>
            <a:ext cx="2742840" cy="243792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3429000" y="1143000"/>
            <a:ext cx="2514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20"/>
          <p:cNvSpPr/>
          <p:nvPr/>
        </p:nvSpPr>
        <p:spPr>
          <a:xfrm>
            <a:off x="3667320" y="4114800"/>
            <a:ext cx="19594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21"/>
          <p:cNvSpPr/>
          <p:nvPr/>
        </p:nvSpPr>
        <p:spPr>
          <a:xfrm>
            <a:off x="3429000" y="3048120"/>
            <a:ext cx="2514240" cy="6382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l Pa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22"/>
          <p:cNvSpPr/>
          <p:nvPr/>
        </p:nvSpPr>
        <p:spPr>
          <a:xfrm>
            <a:off x="3429000" y="6211800"/>
            <a:ext cx="2514240" cy="6382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l Pa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2"/>
          <p:cNvSpPr/>
          <p:nvPr/>
        </p:nvSpPr>
        <p:spPr>
          <a:xfrm>
            <a:off x="0" y="1143000"/>
            <a:ext cx="27428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ES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6"/>
          <p:cNvSpPr/>
          <p:nvPr/>
        </p:nvSpPr>
        <p:spPr>
          <a:xfrm>
            <a:off x="0" y="4267080"/>
            <a:ext cx="27428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ES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7"/>
          <p:cNvSpPr/>
          <p:nvPr/>
        </p:nvSpPr>
        <p:spPr>
          <a:xfrm>
            <a:off x="6400800" y="4267080"/>
            <a:ext cx="27428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ES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28"/>
          <p:cNvSpPr/>
          <p:nvPr/>
        </p:nvSpPr>
        <p:spPr>
          <a:xfrm>
            <a:off x="6400800" y="1143000"/>
            <a:ext cx="27428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ES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"/>
          <p:cNvSpPr/>
          <p:nvPr/>
        </p:nvSpPr>
        <p:spPr>
          <a:xfrm>
            <a:off x="304920" y="152280"/>
            <a:ext cx="899136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rmAutofit fontScale="88000"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-R “Quick Check”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MC900434841[1]"/>
          <p:cNvPicPr/>
          <p:nvPr/>
        </p:nvPicPr>
        <p:blipFill>
          <a:blip r:embed="rId3"/>
          <a:stretch/>
        </p:blipFill>
        <p:spPr>
          <a:xfrm>
            <a:off x="4386600" y="4991040"/>
            <a:ext cx="1099440" cy="114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217800"/>
            <a:ext cx="7772040" cy="99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Topic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075680" y="1210320"/>
            <a:ext cx="711180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, Molecules, Elements, Compounds (AME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acteristics of Life (all 6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 vs. Animal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otosynthesis &amp; Re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4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Additional Study Ques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52280" y="973800"/>
            <a:ext cx="8838720" cy="565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hoto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What i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urpose (product) of photosynthe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What type of cells do photosynthe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  Where in the cell does photosynthesis happen? (What cell part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4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Additional Study Ques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152280" y="973800"/>
            <a:ext cx="8838720" cy="565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  What i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urpose (product) of respir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.  What type of cells do respir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.  Where in the cell does respiration take place? (What cell part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4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Additional Study Ques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52280" y="973800"/>
            <a:ext cx="8838720" cy="565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hotosynthesis &amp;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.  What is the relationship between photosynthesis and respira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Hint: Fill in the picture to help you see the relationship,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hen describe it in word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4" descr="P-R Cycle Picture (Blank).png"/>
          <p:cNvPicPr/>
          <p:nvPr/>
        </p:nvPicPr>
        <p:blipFill>
          <a:blip r:embed="rId1"/>
          <a:stretch/>
        </p:blipFill>
        <p:spPr>
          <a:xfrm>
            <a:off x="4248720" y="2743920"/>
            <a:ext cx="4908240" cy="3692880"/>
          </a:xfrm>
          <a:prstGeom prst="rect">
            <a:avLst/>
          </a:prstGeom>
          <a:ln w="0">
            <a:noFill/>
          </a:ln>
        </p:spPr>
      </p:pic>
      <p:sp>
        <p:nvSpPr>
          <p:cNvPr id="435" name="TextBox 3"/>
          <p:cNvSpPr/>
          <p:nvPr/>
        </p:nvSpPr>
        <p:spPr>
          <a:xfrm>
            <a:off x="152280" y="2743920"/>
            <a:ext cx="3923280" cy="3655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6600" spc="-1" strike="noStrike">
                <a:solidFill>
                  <a:srgbClr val="558ed5"/>
                </a:solidFill>
                <a:latin typeface="Calibri"/>
              </a:rPr>
              <a:t>Vocabulary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28600" y="1935000"/>
            <a:ext cx="891504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 Narrow"/>
              </a:rPr>
              <a:t>Organism</a:t>
            </a:r>
            <a:r>
              <a:rPr b="0" lang="en-US" sz="5400" spc="-1" strike="noStrike">
                <a:solidFill>
                  <a:srgbClr val="000000"/>
                </a:solidFill>
                <a:latin typeface="Arial Narrow"/>
              </a:rPr>
              <a:t>: a _______  ________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Organism is simply a science word we use to describe a _______ ______.  An organism could be a plant, animal or bacteria - ANYTHING that is _______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8" name="Picture 3" descr="C:\Documents and Settings\Administrator\Local Settings\Temporary Internet Files\Content.IE5\SGZQNAOC\MC900417478[1].wmf"/>
          <p:cNvPicPr/>
          <p:nvPr/>
        </p:nvPicPr>
        <p:blipFill>
          <a:blip r:embed="rId1"/>
          <a:stretch/>
        </p:blipFill>
        <p:spPr>
          <a:xfrm>
            <a:off x="6553080" y="4980600"/>
            <a:ext cx="1365840" cy="174060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3"/>
          <p:cNvSpPr>
            <a:spLocks noGrp="1"/>
          </p:cNvSpPr>
          <p:nvPr>
            <p:ph type="sldNum" idx="2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9D5B34-67F7-4F73-9F8F-7B764B8CC431}" type="slidenum"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Picture 4" descr="MC900434841[1]"/>
          <p:cNvPicPr/>
          <p:nvPr/>
        </p:nvPicPr>
        <p:blipFill>
          <a:blip r:embed="rId2"/>
          <a:stretch/>
        </p:blipFill>
        <p:spPr>
          <a:xfrm>
            <a:off x="0" y="0"/>
            <a:ext cx="164232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ounded Rectangle 3"/>
          <p:cNvSpPr/>
          <p:nvPr/>
        </p:nvSpPr>
        <p:spPr>
          <a:xfrm>
            <a:off x="300240" y="945000"/>
            <a:ext cx="8610120" cy="5783040"/>
          </a:xfrm>
          <a:prstGeom prst="roundRect">
            <a:avLst>
              <a:gd name="adj" fmla="val 16667"/>
            </a:avLst>
          </a:prstGeom>
          <a:solidFill>
            <a:schemeClr val="tx2">
              <a:lumMod val="7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3" name="TextBox 7"/>
          <p:cNvSpPr/>
          <p:nvPr/>
        </p:nvSpPr>
        <p:spPr>
          <a:xfrm>
            <a:off x="609480" y="4800600"/>
            <a:ext cx="7761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Compoun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8"/>
          <p:cNvSpPr/>
          <p:nvPr/>
        </p:nvSpPr>
        <p:spPr>
          <a:xfrm>
            <a:off x="609480" y="1219320"/>
            <a:ext cx="6985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Atom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9"/>
          <p:cNvSpPr/>
          <p:nvPr/>
        </p:nvSpPr>
        <p:spPr>
          <a:xfrm>
            <a:off x="609480" y="2362320"/>
            <a:ext cx="8042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Molecul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0"/>
          <p:cNvSpPr/>
          <p:nvPr/>
        </p:nvSpPr>
        <p:spPr>
          <a:xfrm>
            <a:off x="609480" y="3581280"/>
            <a:ext cx="8305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Elemen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1"/>
          <p:cNvSpPr/>
          <p:nvPr/>
        </p:nvSpPr>
        <p:spPr>
          <a:xfrm>
            <a:off x="146160" y="133200"/>
            <a:ext cx="89974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irection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rite a definition (short or long) for 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85880" y="23400"/>
            <a:ext cx="8107920" cy="13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rection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w 2-3 in each box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don’t worry if they could be in more than one box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ounded Rectangle 3"/>
          <p:cNvSpPr/>
          <p:nvPr/>
        </p:nvSpPr>
        <p:spPr>
          <a:xfrm>
            <a:off x="609480" y="1646280"/>
            <a:ext cx="8076960" cy="5210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350" name="Straight Connector 5"/>
          <p:cNvCxnSpPr>
            <a:stCxn id="349" idx="0"/>
            <a:endCxn id="349" idx="2"/>
          </p:cNvCxnSpPr>
          <p:nvPr/>
        </p:nvCxnSpPr>
        <p:spPr>
          <a:xfrm>
            <a:off x="4647960" y="1645920"/>
            <a:ext cx="360" cy="5211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grpSp>
        <p:nvGrpSpPr>
          <p:cNvPr id="351" name="Group 10"/>
          <p:cNvGrpSpPr/>
          <p:nvPr/>
        </p:nvGrpSpPr>
        <p:grpSpPr>
          <a:xfrm>
            <a:off x="2286000" y="1646280"/>
            <a:ext cx="5257440" cy="516240"/>
            <a:chOff x="2286000" y="1646280"/>
            <a:chExt cx="5257440" cy="516240"/>
          </a:xfrm>
        </p:grpSpPr>
        <p:sp>
          <p:nvSpPr>
            <p:cNvPr id="352" name="TextBox 7"/>
            <p:cNvSpPr/>
            <p:nvPr/>
          </p:nvSpPr>
          <p:spPr>
            <a:xfrm>
              <a:off x="2286000" y="1646280"/>
              <a:ext cx="16761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Ato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Box 8"/>
            <p:cNvSpPr/>
            <p:nvPr/>
          </p:nvSpPr>
          <p:spPr>
            <a:xfrm>
              <a:off x="5638680" y="1646280"/>
              <a:ext cx="19047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Elem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54" name="Straight Connector 11"/>
          <p:cNvCxnSpPr/>
          <p:nvPr/>
        </p:nvCxnSpPr>
        <p:spPr>
          <a:xfrm flipH="1">
            <a:off x="609480" y="4016160"/>
            <a:ext cx="8077680" cy="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355" name="TextBox 13"/>
          <p:cNvSpPr/>
          <p:nvPr/>
        </p:nvSpPr>
        <p:spPr>
          <a:xfrm>
            <a:off x="2181240" y="4191120"/>
            <a:ext cx="1676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lec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14"/>
          <p:cNvSpPr/>
          <p:nvPr/>
        </p:nvSpPr>
        <p:spPr>
          <a:xfrm>
            <a:off x="5638680" y="4191120"/>
            <a:ext cx="1828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w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on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at is both an               ATOM and an EL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w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on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at is both an               ELEMENT and a MOLEC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w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on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at is both a               MOLECULE and a COMP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w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on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at is both an               ATOM and a MOLEC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304920" y="2590920"/>
            <a:ext cx="8838720" cy="37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26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 Narrow"/>
              </a:rPr>
              <a:t>Use the chemical equation above to:</a:t>
            </a:r>
            <a:endParaRPr b="0" lang="en-US" sz="3500" spc="-1" strike="noStrike">
              <a:solidFill>
                <a:srgbClr val="ffffff"/>
              </a:solidFill>
              <a:latin typeface="Constantia"/>
            </a:endParaRPr>
          </a:p>
          <a:p>
            <a:pPr marL="713160" indent="-71316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erlin Sans FB"/>
              </a:rPr>
              <a:t>CIRCLE the reactant(s)</a:t>
            </a:r>
            <a:endParaRPr b="0" lang="en-US" sz="4200" spc="-1" strike="noStrike">
              <a:solidFill>
                <a:srgbClr val="ffffff"/>
              </a:solidFill>
              <a:latin typeface="Constantia"/>
            </a:endParaRPr>
          </a:p>
          <a:p>
            <a:pPr marL="713160" indent="-71316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erlin Sans FB"/>
              </a:rPr>
              <a:t>Put a BOX around the product(s)</a:t>
            </a:r>
            <a:endParaRPr b="0" lang="en-US" sz="4200" spc="-1" strike="noStrike">
              <a:solidFill>
                <a:srgbClr val="ffffff"/>
              </a:solidFill>
              <a:latin typeface="Constantia"/>
            </a:endParaRPr>
          </a:p>
          <a:p>
            <a:pPr marL="713160" indent="-71316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erlin Sans FB"/>
              </a:rPr>
              <a:t>Write one word or phrase for the ARROW: __________________</a:t>
            </a:r>
            <a:endParaRPr b="0" lang="en-US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1568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00" strike="noStrike">
                <a:solidFill>
                  <a:srgbClr val="f9f9f9"/>
                </a:solidFill>
                <a:latin typeface="Britannic Bold"/>
              </a:rPr>
              <a:t>Chemical Reactions (Quick Check)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7" name="TextBox 15"/>
          <p:cNvSpPr/>
          <p:nvPr/>
        </p:nvSpPr>
        <p:spPr>
          <a:xfrm>
            <a:off x="1905120" y="1371600"/>
            <a:ext cx="5638320" cy="1004040"/>
          </a:xfrm>
          <a:prstGeom prst="rect">
            <a:avLst/>
          </a:prstGeom>
          <a:solidFill>
            <a:schemeClr val="tx1">
              <a:lumMod val="7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Na + Cl 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</a:rPr>
              <a:t></a:t>
            </a: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 NaC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1_Paper">
  <a:themeElements>
    <a:clrScheme name="Paper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2_Flow">
  <a:themeElements>
    <a:clrScheme name="Flow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2_Flow">
  <a:themeElements>
    <a:clrScheme name="Flow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1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1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  <Words>504</Words>
  <Paragraphs>138</Paragraphs>
  <Company>Spring Lake Park Schools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7T13:23:45Z</dcterms:created>
  <dc:creator>User</dc:creator>
  <dc:description/>
  <dc:language>en-US</dc:language>
  <cp:lastModifiedBy>User</cp:lastModifiedBy>
  <cp:lastPrinted>2012-12-19T18:28:27Z</cp:lastPrinted>
  <dcterms:modified xsi:type="dcterms:W3CDTF">2013-11-17T21:02:35Z</dcterms:modified>
  <cp:revision>65</cp:revision>
  <dc:subject/>
  <dc:title>Matter – Quick Re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3</vt:r8>
  </property>
</Properties>
</file>